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E99A-A03C-4299-9155-21E42985E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F2A7-6C81-4411-BAC0-BEF65D79B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651C-B192-409F-B3D7-9A491FB5A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2E49-A6B5-49CA-BC95-3C943F94B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89D3-6F88-40A0-BFF2-08DFA2E64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3505-7CD6-4BD8-8862-8889DAA7F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9406-EB3E-4739-BA24-98D4D0038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D552-5A1A-4587-BEC9-28AE4C316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6347-4ECA-4A71-BE56-AADE5D898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8392-63C5-4B4C-8F35-111348A6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36A2-E975-4F72-8D8D-F42D297D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9ABB-A659-47D1-9744-67247CF8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44B0B-D74D-4337-892C-7A4E2EA05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xygen Fami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ygen, Sulfur, Selenium, Tellurium, Poloniu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metals and Metallo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onium and tellurium are matalloi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ygen, sulfur, and selenium are non-met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405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2133360"/>
            <a:ext cx="64008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located in group 6A which indicated that they have 6 valence electron, and they are reac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of the oxygen family is found all through the air that we breath to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21:05:32Z</dcterms:created>
  <dc:creator>tatumadmin</dc:creator>
  <dc:description/>
  <dc:language>en-US</dc:language>
  <cp:lastModifiedBy>tatumadmin</cp:lastModifiedBy>
  <dcterms:modified xsi:type="dcterms:W3CDTF">2009-12-03T21:26:07Z</dcterms:modified>
  <cp:revision>2</cp:revision>
  <dc:subject/>
  <dc:title>Oxygen Family</dc:title>
</cp:coreProperties>
</file>